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D54-875E-4C5A-9BDC-3CD0E073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326-56A2-47A6-AB2F-0FC453CD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92C-5AFC-40B6-BFDD-D9868378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B97-2B19-45A7-844A-CF70F4AE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8D7D-5687-4B1B-9FE1-39A2D60C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9879-7B3E-4779-B36B-98573A53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61D-CA27-470E-8FC9-BDEDE7D3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06D-FB8B-49E4-86DE-F90810B9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AE2-EAB0-4E30-ABAD-B1CE8AD6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79E-423F-4E57-AD0E-08B5E40D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A04-8017-4832-A707-C9627574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C28-996F-4F38-8144-7EEEFF57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ACF7-AED9-4438-8D9F-F4074AE34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East, bordering the Persian Gulf and the Red Sea, north of Ye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roleum, natural gas, iron ore, gold,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ve coastlines on Persian Gulf and Red Sea provide great leverage on shipping (especially crude oil) through Persian Gulf and Suez Ca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il-enriched economy has brought some 5.6 million resident foreigners—mostly from Arab states or South A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ms within the king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/Veg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sh, dry desert with great temperature extre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uninhabited, sandy des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9:07:21Z</dcterms:created>
  <dc:creator>amberlblake</dc:creator>
  <dc:description/>
  <dc:language>en-US</dc:language>
  <cp:lastModifiedBy>amberlblake</cp:lastModifiedBy>
  <dcterms:modified xsi:type="dcterms:W3CDTF">2009-02-16T19:27:25Z</dcterms:modified>
  <cp:revision>2</cp:revision>
  <dc:subject/>
  <dc:title>Slide 1</dc:title>
</cp:coreProperties>
</file>